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381-1995-4A83-9508-602C057E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BD5-6AF2-4C24-880C-20D7BFD8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6F2FD-F8C5-46D1-A89B-B9EE3EB6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47386-AD05-4A3E-8ECC-5914A3F3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01BDA-A7AB-4BCF-A52B-3E763989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3D1E6-E49E-49C2-9014-47DF4996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5B3DE-5AF2-4A3E-93AF-2F971911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49C9B-2DA4-468A-9834-11E4D81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E9098-F31E-4351-B77D-42AD8111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9056A-5D60-47ED-BBEB-95F4ABB2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3B20C-3482-456B-9A5C-C4DC4123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8A058-B102-4603-9AF0-394CFB82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E9A-5AD3-4444-AB99-71CD3116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52B35-8E92-4326-999C-A46C19B9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BF816-3814-46C4-BEEB-A91581FB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F2B777-2E66-40C4-9CD7-B7D6D317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6FCDF-86DB-4ADC-9829-B27B24A0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CEF4E-ECD5-4DC4-B0AD-7D24E541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D7FFA-A7E7-410E-A605-4E8380E1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CEA7F-E155-4533-8683-0F7BCFC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72701-9F99-4580-8B00-7B313EC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C9428-839D-4F5E-8885-9232AB25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436DA-2BCE-4757-8632-8B92F24F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41F-B752-4EA1-845C-6020630B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85587-4547-4B78-9897-B8F36A96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3E5D5-9A12-45C4-ABD7-5B877933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204BE-4EC9-49B7-908B-4F1C9DBE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4F6CB-CCB3-4B48-A7D8-5CA483B4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6620B-4B71-4DBD-925C-9F0820C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91D87-8891-4998-9A35-E112392E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7308C-3195-4D5C-9FD1-8674A796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8C911-3CEC-4DE6-BBA8-626F5A4F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3F6D8-2DA9-4445-9868-3B639C88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7DA6C-BB51-4851-B5F3-75667D85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160A-12AF-46FF-99A0-9A169C62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4E5E9-EFF2-4BCF-934A-4D55C4AF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44625-FCAD-4260-BFB4-55BE7077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8600A-9B0E-44D8-A665-A2410B6F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B7FD6-9ABD-4F27-86A3-A47EC779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40C72-9867-4E75-884A-6FE068DE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847AA-FA80-4033-BA90-C1BF617B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E29F5-E49D-4CFD-84CF-A3C55423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A770D-CC2C-4BCB-8F9A-1DC17DC2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7ACFE-E664-4888-BA5B-2FD4F383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E0E03-F4A6-4575-8076-478B13A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BE49-B49B-4299-813F-761EC930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21C5A-7A48-446A-B372-B31D1E87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CA4BC-4381-4D01-993C-DA61018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F3278-E7D5-4ED3-BC13-69BC683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92B6C-2BAE-4CCC-A377-591BBB78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597D3-CEBA-4E0F-B697-6C5A425A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37DD-2494-49F0-8FA6-438ED9CC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6CE3-0C45-49FC-9709-C8263D43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00AC-36C1-4313-AD8D-959B5451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0333-1CA3-4F59-A517-2A369BC5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7D58-3BCC-4FA1-A856-173C7686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D83-95D2-42AE-82D1-8DF15CB9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A982-0064-4F1C-BB93-F9B08F8D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D3F3-9703-43D6-9087-664F208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2AC4-01E4-4E60-A75D-B17B52FC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8B29-7DB3-49A2-BD57-13B95466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B2B2-29D0-4CB2-8804-B18E6453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6DBD-E598-484C-96C3-4722842F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56A8-A85C-4EC5-860D-314F3B31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70CE-24CB-4AC9-A6AB-AE4B5FB5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7141-8D7B-4EDC-8E8C-CE4C862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C6342-1383-4400-894F-C83F7141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3F4-23E2-490E-AC4C-0C0358F4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52AB-2EEC-4172-AA16-5A7706A5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F78DC-2FE7-48AB-B605-F4C3BD20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3A62-7851-405E-A1C2-E6C27672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9514-72C2-4F3D-9E99-AF88122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D9E87-8771-4851-B757-06D07F27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412B-1053-4FC7-9FC5-D79509C5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8E9C-E6CE-41C2-AF6F-13387D70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FC37-718C-476E-B95B-CC5AFD02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C22C-21CA-4756-91C5-95627685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AB2B-5011-4377-95B4-37C52A06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A06-A31E-4061-B8C1-6FFF8071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60CF-F03E-4D88-839C-801082A8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648C-8D9C-4D8D-BDEF-250C6078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A79E-B48D-4A98-9676-BEB81A4F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EE5D0-B530-43DE-A0B7-8FAC9F0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67D5-7159-491C-BF6C-1741F32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53FC-EB2F-4FCF-9DDB-3EB2282E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BB1D-203B-483E-8208-84B67773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3D37-22E9-4124-AF7D-1C7E877D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6A5C-DE28-4288-AC56-EE89B85D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5368D-7359-4272-B9F3-6643F4DD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215-E4D2-4648-907D-63218EBF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570E-AC44-43FC-BBFA-E82EB4F4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81065-199D-487F-8903-8766ED61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5A55-7E56-43F7-ABCF-B03E72CB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489AB-88D4-4932-87F4-97309E3B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49E3-C114-459C-87DC-0FFBFFEA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5F93C-8F10-4BB6-853C-7CB3804F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46E0-6485-41F5-898C-A653EB6B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215B4-0F19-49B5-851A-04011D02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0D85-C456-4EB9-88C0-41951EAC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2791D-C3E0-45CA-B099-C21607FE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F69-77C2-42E2-A524-BD17BCBA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2E636-9379-44BE-B18A-13AA2A68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D4EC-458A-48D2-BCC1-591290DB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75522-424B-46A1-B8D6-A654EE4B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2B8B-4D88-46F7-A637-7C25A492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D2455-A0FB-4CBB-B43C-44B6C02E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246E-F8F6-4963-BB3E-EA43EE24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DBDD0-1CEA-4658-84CE-6D117468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D0D6-445E-41E5-AEEC-A596230B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FF643-153D-4934-B200-B44998FC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21B7-E7E8-4A99-888C-E375D94B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AC0-2238-43EC-83DD-11CC92BF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AEEDB-966D-4AB3-846D-7D18F74F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0EC29-D8D6-494E-9BDA-A1A750ED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3ABF-97DF-4C08-8423-EAC79B97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0D04E-4F80-422B-8185-FB196629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D0E35-1CFF-45E7-BF1C-B787D9AC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3BB89-2078-4C16-96BD-61063804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90653-3172-4B2D-8BA6-A38BE16F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0A479-98B8-43B9-861D-6BAE0AF7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4FE08-DB81-4E50-A580-E0F66056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30B23-DB29-4CA2-8FCE-E6D0BC6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438-3513-4041-B91B-391BD6E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D123F-7678-4A5C-80CA-4571AA0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C393B-1674-4FC4-B573-37EED5D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04798-85C4-481A-997E-2A916F07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4AA7B-D157-442C-A0DC-F149D7B5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16440-F304-44A9-8F64-7F929699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26DAD-5114-4A19-9E31-7E6EF506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FCC74-F09F-479D-8CDA-C79AE466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40087-C530-416D-BEB5-30B5FC03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4DCE6-1A2F-4123-BB8B-CF337C3F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8427-3FE2-4799-9910-11EE754A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CD3-18A9-46C2-83A9-0DCA986E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0C6DF-01DD-42F2-AA63-3E7F41F4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5CB12-13DB-4EAF-B86B-771131F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114A3-D4ED-4564-9ADA-EA77745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12831-3A18-430C-B177-5E942847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C5076-F22E-4632-AB05-1E7D7CD6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C9941-2009-4C37-8252-A5AEFF59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464CB-84C2-4A05-8D7D-751589A9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57018-92C3-4BDF-A36B-E35916DD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BD3D3-536E-4081-805B-D78E264B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439D2-7800-4121-A8EE-41D04164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1E7E-0E90-49A7-9773-F1358FC734A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CF29-24EE-4798-9FAB-FB317A58150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4569-CA93-4CA9-AB44-9773236E793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0C9F-87E2-42DB-A484-758E67E4460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00B2-0D60-4EB6-96B3-3824C1930F1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1672-9DE2-4055-92F6-6F1EF561DB8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A4F8-032E-438D-ADF1-93CCDFD52FE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CF0B-B1E2-4630-BEEB-334CE6C43B6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5FA2-23B4-4B0A-92ED-BBE68B564CB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0F3C-8BA8-49BB-B521-676A7C15369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E974-93B4-44F8-A26E-66361921FA9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EBB6-E8A2-4312-8AA7-FEC8250B524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64535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14360" y="100008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28760" y="285840"/>
            <a:ext cx="850104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Правила финансового обеспечения предупредительных мер по сокращению производственного травматизма и профессиональных заболев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Рисунок 5" descr="&amp;Rcy;&amp;ocy;&amp;scy;&amp;tcy;&amp;rcy;&amp;ucy;&amp;dcy; &amp;vcy;&amp;ocy;&amp;scy;&amp;scy;&amp;tcy;&amp;acy;&amp;ncy;&amp;ocy;&amp;vcy;&amp;icy;&amp;lcy; &amp;pcy;&amp;rcy;&amp;acy;&amp;vcy;&amp;acy; &amp;bcy;&amp;ocy;&amp;lcy;&amp;iecy;&amp;iecy; 1000 &amp;rcy;&amp;acy;&amp;bcy;&amp;ocy;&amp;tcy;&amp;ncy;&amp;icy;&amp;kcy;&amp;ocy;&amp;vcy; &amp;gcy;&amp;iecy;&amp;ocy;&amp;fcy;&amp;icy;&amp;zcy;&amp;icy;&amp;chcy;&amp;iecy;&amp;scy;&amp;kcy;&amp;ocy;&amp;gcy;&amp;ocy; &amp;pcy;&amp;rcy;&amp;iecy;&amp;dcy;&amp;pcy;&amp;rcy;&amp;icy;&amp;yacy;&amp;tcy;&amp;icy;&amp;yacy;"/>
          <p:cNvPicPr/>
          <p:nvPr/>
        </p:nvPicPr>
        <p:blipFill>
          <a:blip r:embed="rId1"/>
          <a:stretch/>
        </p:blipFill>
        <p:spPr>
          <a:xfrm>
            <a:off x="596880" y="2114640"/>
            <a:ext cx="7662960" cy="316368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6"/>
          <p:cNvSpPr/>
          <p:nvPr/>
        </p:nvSpPr>
        <p:spPr>
          <a:xfrm>
            <a:off x="4786200" y="550080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заместитель директора по АХЧ МБВ(С)ОУ В(С)ОШ № 185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e38"/>
                </a:solidFill>
                <a:latin typeface="Times New Roman"/>
                <a:ea typeface="Times New Roman"/>
              </a:rPr>
              <a:t>Ожогова В.П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СИЗ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и смывающие средств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приобретаемых СИЗ с указанием профессий (должностей) работников, норм выдачи СИЗ со ссылкой на соответствующий пункт типовых норм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еречень СИЗ, приобретаемых с учетом результатов проведения специальной оценки условий труда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закона от 28 декабря 2013 г. N 426-ФЗ "О специальной оценке условий труда" (Собрание законодательства Российской Федерации, 2013, N 52, ст. 6991) порядком, не истек, то с учетом аттестации рабочих мест по условиям труда), с указанием профессий (должностей) работников, норм выдачи СИЗ, а также количества и стоимости приобретаемых СИЗ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632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Территориальный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рган Фонда принимает решение об отказе в финансовом обеспечении предупредительных мер в следующих случаях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сли у страхователя имеются недоимка по уплате страховых взносов, пени и штрафы, не погашенные на день подачи страхователем заявления в территориальный орган Фонда по месту своей регистрац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едставленные документы содержат недостоверную информацию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если предусмотренные бюджетом Фонда средства на финансовое обеспечение предупредительных мер на текущий год полностью распределены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ри представлении страхователем неполного комплекта документ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в финансовом обеспечении предупредительных мер по другим основаниям не допускает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5a00"/>
                </a:solidFill>
                <a:latin typeface="Georgia"/>
              </a:rPr>
              <a:t>Ответственность учреждения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хователь ведет в установленном порядке учет средств, направленных на финансовое обеспечение предупредительных мер в счет уплаты страховых взносов, и ежеквартально представляет в территориальный орган Фонда отчет об их использован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сле завершения запланированных мероприятий страхователь представляет в территориальный орган Фонда документы, подтверждающие произведенные расхо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Спасибо за 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Нормативно-правовая база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МИНИСТЕРСТВО ТРУДА И СОЦИАЛЬНОЙ ЗАЩИТЫ РОССИЙСКОЙ ФЕДЕРАЦИИ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КА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т 10 декабря 2012 г. N 580н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в ред.от 20.02.2014г.)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Б УТВЕРЖДЕНИИ ПРАВИ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ФИНАНСОВОГО ОБЕСПЕЧЕНИЯ ПРЕДУПРЕДИТЕЛЬНЫХ МЕР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 СОКРАЩЕНИЮ ПРОИЗВОДСТВЕННОГО ТРАВМАТИЗМ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ПРОФЕССИОНАЛЬНЫХ ЗАБОЛЕВАНИЙ РАБОТНИКОВ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 САНАТОРНО-КУРОРТНОГО ЛЕЧЕНИЯ РАБОТНИКОВ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НЯТЫХ НА РАБОТАХ С ВРЕДНЫМИ И (ИЛИ) ОПАСНЫМ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ОИЗВОДСТВЕННЫМИ ФАКТОРАМИ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85480"/>
            <a:ext cx="8534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Финансирование мероприят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 СОУ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учение по охране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работникам СИЗ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анаторно-курортное лечени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оведение обязательных периодических медицинских осмотров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обретение аптечек для оказания первой помощ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еспечение лечебно-профилактическим питанием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ликвидация вредных факторов на рабочем месте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 други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5a00"/>
                </a:solidFill>
                <a:latin typeface="Georgia"/>
              </a:rPr>
              <a:t>Алгоритм действий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Содержимое 3" descr=""/>
          <p:cNvPicPr/>
          <p:nvPr/>
        </p:nvPicPr>
        <p:blipFill>
          <a:blip r:embed="rId1"/>
          <a:stretch/>
        </p:blipFill>
        <p:spPr>
          <a:xfrm>
            <a:off x="334800" y="1352520"/>
            <a:ext cx="838224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образец заявле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28760" y="150012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на фирменном бланке учрежден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г. Екатеринбург, Чапаева, 23б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у филиала № 1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ГУ - Свердловского регионального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отделения ФСС РФ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Иванченко Ю.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Сведения о страхователе: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Муниципальное  бюджетное вечернее (сменное) общеобразовательное учреждение вечерняя (сменная) общеобразовательная школа № 185 (МБВ(С)ОУ В(С)ОШ  № 185)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23543"/>
                </a:solidFill>
                <a:uFillTx/>
                <a:latin typeface="Times New Roman"/>
                <a:ea typeface="Times New Roman"/>
              </a:rPr>
              <a:t>Регистрационный номер страхователя:  6611501539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Прошу рассчитать сумму финансового обеспечения предупредительных мер по сокращению производственного травматизма и профессиональных заболеваний в 2015 году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иректор МБВ(С)ОУ В(С)ОШ № 185                                В.М.Виноградов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«28» февраля 2015 года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Исп. 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Уполномоченный по социальному страхованию Ожогова В.П.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23543"/>
                </a:solidFill>
                <a:latin typeface="Georgia"/>
              </a:rPr>
              <a:t>тел. 8-908-925-78-16, 245-42-00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1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5a00"/>
                </a:solidFill>
                <a:latin typeface="Georgia"/>
              </a:rPr>
              <a:t>Для получения финансового обеспечения предупредительных мер страхователи должны представить в исполнительный орган Фонда пакет документов:</a:t>
            </a:r>
            <a:br>
              <a:rPr sz="1800"/>
            </a:b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935000"/>
            <a:ext cx="82580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заявление о финансовом обеспечении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план финансового обеспечения предупредительных мер по установленной форм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копия (выписка из) коллективного договора (соглашения по охране труда между работодателем и представительным органом работников) и (или) копия плана мероприятий по улучшению и оздоровлению условий труда в организации, разработанного по результатам аттестации рабочих мест по условиям тру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Georgia"/>
              </a:rPr>
              <a:t>документы, обосновывающие финансовую необходимость выбранных предупредительных ме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56760"/>
            <a:ext cx="8485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Проведение специальной оценки условий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локального нормативного акта о создании комиссии по проведению специальной оценки условий труд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ю гражданско-правового договора с организацией, проводящей специальную оценку условий труда, с указанием количества рабочих мест, в отношении которых проводится специальная оценка условий труда, и стоимости проведения специальной оценки условий труда на указанном количестве рабочих мест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429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реализация</a:t>
            </a:r>
            <a:r>
              <a:rPr b="0" lang="ru-RU" sz="1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65a00"/>
                </a:solidFill>
                <a:latin typeface="Georgia"/>
              </a:rPr>
              <a:t>мероприятий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</a:t>
            </a: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, подтверждающего превышение предельно допустимых уровней воздействия вредных и (или) опасных производственных факторов на соответствующих рабочих местах (если срок действия результатов аттестации рабочих мест по условиям труда, проведенной в соответствии с действовавшим до дня вступления в силу Федерального </a:t>
            </a:r>
            <a:r>
              <a:rPr b="0" lang="ru-RU" sz="15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закона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от 28 декабря 2013 г. N 426-ФЗ "О специальной оценке условий труда" (Собрание законодательства Российской Федерации, 2013, N 52, ст. 6991) порядком, не истек, то представляются копии отчета о проведении аттестации рабочих мест по условиям труда)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ю отчета о проведении специальной оценки условий труда на соответствующих рабочих местах после реализации соответствующих мероприятий и свидетельствующего о снижении класса (подкласса) условий труда на соответствующих рабочих местах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пии документов, подтверждающих приобретение организацией соответствующего оборудования и проведение работ по приведению уровней воздействия вредных и (или) опасных производственных факторов на рабочих местах в соответствие с государственными нормативными требованиями охраны труда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43236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случае включения в план финансового обеспечения предупредительных мер мероприятий, не требующих приобретения оборудования, - копию договора на проведение соответствующих работ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429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3543"/>
                </a:solidFill>
                <a:latin typeface="Georg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900" spc="-1" strike="noStrike">
                <a:solidFill>
                  <a:srgbClr val="323543"/>
                </a:solidFill>
                <a:latin typeface="Georgia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5a00"/>
                </a:solidFill>
                <a:latin typeface="Georgia"/>
              </a:rPr>
              <a:t>Обучение по охране тру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договор на обучение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чёт на оплату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ограммы обучения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уведомление о внесении в реестр Минсоцздравразвития аккредитованных организаций, оказывающих услуги в области охраны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правлении работников на обучение по охране труда с отрывом от производств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список работников, направляемых на обучение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 algn="just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111618"/>
                </a:solidFill>
                <a:latin typeface="Georgia"/>
              </a:rPr>
              <a:t>приказ о назначении ответственного лица по охране труд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4-21T04:55:46Z</dcterms:modified>
  <cp:revision>99</cp:revision>
  <dc:subject/>
  <dc:title>проведение аттестации рабочих мест по условиям труда;</dc:title>
</cp:coreProperties>
</file>